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1A11D-C88B-4162-9285-440886E41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42BDF-8D48-4D86-9725-485B09E2A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82C6E-19ED-46FB-81D4-AC208F717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D8164-5273-421A-84DE-EA25A4FCB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211B9-C539-4AC0-B82D-86BEA3116D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DE5EE-5721-4294-9873-D7234E8AA1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70C50-DFCB-4802-B875-2AC72D4372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3D435-A237-4172-B973-0E67DF8525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338D2-A8AE-4F7D-92C0-7C07858ED4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5FBDE-2250-42CC-BE64-81C5046F2A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8FE18-A0EB-43CA-BC1C-0C020CC67E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BE05-78EF-47A1-8D4C-6405F8BD3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380A3-F402-4D28-AF24-5A1BEEB0D9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2702B-F5C5-4F88-936A-2434115CED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4714D-0FF5-4B57-AF60-884EBFB8C0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E0614-774F-432E-8130-EABCA2C359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06AA0-4D4C-44E9-882D-EA66F2A8E4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32228-F608-4C76-9604-A0E163D8F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8CA7-7649-46BD-97CC-42104A9A3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1D0D6-5E49-4281-B219-FB3E998C2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F41F8-5F57-4F4E-8EC0-E7570F5FF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F045C-7DDD-4BBF-8510-3792AFE76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FA35-FF1C-43F8-AB61-DB3A9B24F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56B8-4823-4A30-9C90-837C292EF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77474A8-063A-4CBC-87C3-0AAF9580CD8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29089CA-4B60-41F3-A983-7384CD62D7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5FF45588-9FAB-4E27-8BA7-CD2E06E13AD6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1CA1C95F-E571-415E-99C0-6CEA7DEA42B6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4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0-11-01T16:41:17Z</dcterms:modified>
  <cp:revision>359</cp:revision>
  <dc:subject/>
  <dc:title>No Slide Title</dc:title>
</cp:coreProperties>
</file>